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024080" y="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0c06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4024080" y="9721800"/>
            <a:ext cx="3074760" cy="512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F5C61F-BE3D-4625-88F2-5818674DD208}" type="slidenum">
              <a:rPr b="1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objetivo es tratar de informar desde la perspectiva de un inversor como es Unirisco respecto a los spin-off universitarios, que son y por que crear un spin-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ue es el capital riesgo, para que sirve y por ultimo como pude una empresa de capital riesgo universitario como Unirisco ayudarles en la creación de una empresa con vinculación Universita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peramos que al final de esta jornada dispongais de una idea general sobre estos t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179-3A22-46F4-9EF5-068715A5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9280" y="3885840"/>
            <a:ext cx="82076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C40-919F-462C-9CD2-DFB23E46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480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92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480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B6E-FD36-42F2-8BD1-E999F5E1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4520" y="16286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89760" y="16286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9280" y="38858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4520" y="38858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89760" y="3885840"/>
            <a:ext cx="26427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125-2CD8-4A3F-B8E7-AC2B27B0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AFD-0E13-4F7F-A43F-6989A648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759-50D0-4C9F-8F03-8E44FB1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4DE-195A-42B5-B122-D2BBF7A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E2A-5005-43A3-B78E-07DE0CC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924360" y="274320"/>
            <a:ext cx="496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30D-5CFA-4354-89A5-784AA87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0EE-CF9F-4790-B216-6F7B95E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68E-D581-4C45-98D2-DF9F1FD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280" y="3885840"/>
            <a:ext cx="82076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946-F204-448A-B23D-87F1C87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46483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52480" y="15228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2900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03480" y="3068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0c06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239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Click to edit the outline text format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1" marL="1231920" indent="-469800">
              <a:spcBef>
                <a:spcPts val="1239"/>
              </a:spcBef>
              <a:buClr>
                <a:srgbClr val="8d90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Second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2" marL="1803240" indent="-380880">
              <a:spcBef>
                <a:spcPts val="1239"/>
              </a:spcBef>
              <a:buClr>
                <a:srgbClr val="f60c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Third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3" marL="2374920" indent="-380880">
              <a:spcBef>
                <a:spcPts val="1239"/>
              </a:spcBef>
              <a:buClr>
                <a:srgbClr val="b7c1eb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Fourth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4" marL="2857680" indent="-292320">
              <a:spcBef>
                <a:spcPts val="1239"/>
              </a:spcBef>
              <a:buClr>
                <a:srgbClr val="f60c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Fifth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5" marL="2857680" indent="-292320">
              <a:spcBef>
                <a:spcPts val="1239"/>
              </a:spcBef>
              <a:buClr>
                <a:srgbClr val="40458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Sixth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lvl="6" marL="2857680" indent="-292320">
              <a:spcBef>
                <a:spcPts val="1239"/>
              </a:spcBef>
              <a:buClr>
                <a:srgbClr val="40458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Century Gothic"/>
              </a:rPr>
              <a:t>Seventh Outline Level</a:t>
            </a: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0876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27280" y="6093000"/>
            <a:ext cx="3960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59640" y="6237360"/>
            <a:ext cx="2062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50021"/>
                </a:solidFill>
                <a:latin typeface="Univer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85E-BFD9-4143-8331-B479702F51DB}" type="slidenum">
              <a:rPr b="0" lang="en-US" sz="1000" spc="-1" strike="noStrike">
                <a:solidFill>
                  <a:srgbClr val="a50021"/>
                </a:solidFill>
                <a:latin typeface="Univer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95280" y="260280"/>
            <a:ext cx="1800360" cy="1368360"/>
            <a:chOff x="395280" y="260280"/>
            <a:chExt cx="1800360" cy="1368360"/>
          </a:xfrm>
        </p:grpSpPr>
        <p:sp>
          <p:nvSpPr>
            <p:cNvPr id="11" name=""/>
            <p:cNvSpPr/>
            <p:nvPr/>
          </p:nvSpPr>
          <p:spPr>
            <a:xfrm>
              <a:off x="395280" y="260280"/>
              <a:ext cx="1800360" cy="13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468360" y="476280"/>
              <a:ext cx="1655280" cy="936360"/>
              <a:chOff x="468360" y="476280"/>
              <a:chExt cx="1655280" cy="936360"/>
            </a:xfrm>
          </p:grpSpPr>
          <p:pic>
            <p:nvPicPr>
              <p:cNvPr id="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880" y="476280"/>
                <a:ext cx="150408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68360" y="1179000"/>
                <a:ext cx="1655280" cy="23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40458c"/>
                    </a:solidFill>
                    <a:latin typeface="Univers"/>
                  </a:rPr>
                  <a:t>www. redotriuniversidades. net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2195640" y="404640"/>
            <a:ext cx="1439640" cy="6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redotriuniversidades.net/" TargetMode="External"/><Relationship Id="rId2" Type="http://schemas.openxmlformats.org/officeDocument/2006/relationships/hyperlink" Target="mailto:st@redotriuniversidades.ne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205000"/>
            <a:ext cx="8137440" cy="41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La Red de Oficinas de Transferencia de Resultados de Investig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RedOTR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	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990000"/>
                </a:solidFill>
                <a:latin typeface="Century Gothic"/>
                <a:ea typeface="Times New Roman"/>
              </a:rPr>
              <a:t>Corrientes, Argentina, 17 de mayo 2007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28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005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D50-D180-4302-9260-11E0914D45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F6B-F9E1-4526-B874-0AB9F56672C4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476280"/>
            <a:ext cx="57754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Estructura de RedOT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40640" y="1892880"/>
            <a:ext cx="6972840" cy="3839760"/>
            <a:chOff x="1340640" y="1892880"/>
            <a:chExt cx="6972840" cy="3839760"/>
          </a:xfrm>
        </p:grpSpPr>
        <p:sp>
          <p:nvSpPr>
            <p:cNvPr id="106" name=""/>
            <p:cNvSpPr/>
            <p:nvPr/>
          </p:nvSpPr>
          <p:spPr>
            <a:xfrm>
              <a:off x="1630800" y="1892880"/>
              <a:ext cx="624708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Arial"/>
                </a:rPr>
                <a:t>Comisión Sectorial de I+D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47440" y="5092920"/>
              <a:ext cx="130788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GT Indicad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40640" y="5092920"/>
              <a:ext cx="116172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GT 7º PM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00400" y="5092920"/>
              <a:ext cx="130680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GT Formación OTRI-Escuel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6600" y="3557160"/>
              <a:ext cx="116064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Secretario Ejecutiv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30800" y="2660760"/>
              <a:ext cx="159804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Comisión Ejecu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3360" y="5092920"/>
              <a:ext cx="130788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GT evalu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6600" y="4837320"/>
              <a:ext cx="6245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5092920"/>
              <a:ext cx="130788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GT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Contrat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6720" y="2532960"/>
              <a:ext cx="1596960" cy="89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Plenario RedOTR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81800" y="3557160"/>
              <a:ext cx="130392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Comisión Permanen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76600" y="483732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22240" y="483732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73920" y="483732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71960" y="483732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483732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57280" y="3300840"/>
              <a:ext cx="72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83760" y="3684960"/>
              <a:ext cx="144720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Tahoma"/>
                </a:rPr>
                <a:t>Coordinado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4040" y="3557160"/>
              <a:ext cx="1887120" cy="51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</a:rPr>
                <a:t>Secretaría Técnica C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</a:rPr>
                <a:t>OTRI CRU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38680" y="381312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36720" y="38131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62120" y="342936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8960" y="381312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62120" y="4069440"/>
              <a:ext cx="0" cy="76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2421000"/>
            <a:ext cx="0" cy="216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BCD-3B6E-42E9-B88A-50AAEF841B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AF9-998C-47A0-BD63-963AB43CD4F9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333360"/>
            <a:ext cx="4046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         </a:t>
            </a: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Funcionamiento de RedOT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773360"/>
            <a:ext cx="820872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Análoga” a la de una asociación: </a:t>
            </a:r>
            <a:br>
              <a:rPr sz="2400"/>
            </a:b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Plenario de directores/representantes</a:t>
            </a:r>
            <a:br>
              <a:rPr sz="2400"/>
            </a:b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Comisión Permanente (7 miembros elegidos por Plenario, que eligen a un Coordinador)</a:t>
            </a:r>
            <a:br>
              <a:rPr sz="2400"/>
            </a:b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Secretaría Técnica</a:t>
            </a:r>
            <a:br>
              <a:rPr sz="2400"/>
            </a:b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Reglam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Programación Anual de actividades</a:t>
            </a:r>
            <a:br>
              <a:rPr sz="2400"/>
            </a:br>
            <a:r>
              <a:rPr b="0" lang="en-US" sz="2400" spc="-1" strike="noStrike">
                <a:solidFill>
                  <a:srgbClr val="00006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90F-CC6E-4F94-A957-90BE78FD8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AFE-546F-4B2B-96EF-D26176ED6B11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77744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OTRI-Escuela (GT Formación) 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* Programa anual de Formación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GT Contratos 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* Talleres, guías, modelos…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GT 7º Programa Marco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* Guía de costes totales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GT Indicadores 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* Encuesta RedOTRI</a:t>
            </a:r>
            <a:br>
              <a:rPr sz="2400"/>
            </a:b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404640"/>
            <a:ext cx="46227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Grupos de Trabajo de RedOT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534-A7F4-4987-8BDA-4C22901EC3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333360"/>
            <a:ext cx="5991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Proyecto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2276640"/>
            <a:ext cx="6840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Proyecto Uniemprendia: Apoyo a EBT. 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Proyecto RedVALOR: Valoración del conocimiento.</a:t>
            </a:r>
            <a:br>
              <a:rPr sz="3200"/>
            </a:br>
            <a:br>
              <a:rPr sz="2800"/>
            </a:br>
            <a:br>
              <a:rPr sz="2400"/>
            </a:b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233-6ABE-43F5-8963-D88C65F3B9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333360"/>
            <a:ext cx="5991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Actividades en red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402920" y="2060640"/>
            <a:ext cx="691380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Conferencia anual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Documentos de posición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Informe RedOTRI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- Foro NEOTEC: Capital riesgo e inversores.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B9A-ECAB-4CFA-B0B2-B364028E8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entury Gothic"/>
              </a:rPr>
              <a:t>Internacionalización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07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entury Gothic"/>
              </a:rPr>
              <a:t>Asociación Europea de Oficinas de Transferencia de Conocimiento PROTON</a:t>
            </a:r>
            <a:endParaRPr b="1" lang="en-US" sz="2400" spc="-1" strike="noStrike">
              <a:solidFill>
                <a:srgbClr val="40458c"/>
              </a:solidFill>
              <a:latin typeface="Century Gothic"/>
            </a:endParaRPr>
          </a:p>
          <a:p>
            <a:pPr lvl="1" marL="1231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d9099"/>
              </a:solidFill>
              <a:latin typeface="Century Gothic"/>
            </a:endParaRPr>
          </a:p>
          <a:p>
            <a:pPr lvl="1" marL="1231920" indent="-469800">
              <a:lnSpc>
                <a:spcPct val="90000"/>
              </a:lnSpc>
              <a:spcBef>
                <a:spcPts val="675"/>
              </a:spcBef>
              <a:buClr>
                <a:srgbClr val="8d9099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Ha </a:t>
            </a: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finalizado</a:t>
            </a: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 la financiación de la Comisión.</a:t>
            </a:r>
            <a:endParaRPr b="1" lang="en-US" sz="1800" spc="-1" strike="noStrike">
              <a:solidFill>
                <a:srgbClr val="8d9099"/>
              </a:solidFill>
              <a:latin typeface="Century Gothic"/>
            </a:endParaRPr>
          </a:p>
          <a:p>
            <a:pPr lvl="1" marL="1231920" indent="-469800">
              <a:lnSpc>
                <a:spcPct val="90000"/>
              </a:lnSpc>
              <a:spcBef>
                <a:spcPts val="675"/>
              </a:spcBef>
              <a:buClr>
                <a:srgbClr val="8d9099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De proyecto a </a:t>
            </a: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Asociación</a:t>
            </a: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.</a:t>
            </a:r>
            <a:endParaRPr b="1" lang="en-US" sz="1800" spc="-1" strike="noStrike">
              <a:solidFill>
                <a:srgbClr val="8d9099"/>
              </a:solidFill>
              <a:latin typeface="Century Gothic"/>
            </a:endParaRPr>
          </a:p>
          <a:p>
            <a:pPr lvl="1" marL="1231920" indent="-469800">
              <a:lnSpc>
                <a:spcPct val="90000"/>
              </a:lnSpc>
              <a:spcBef>
                <a:spcPts val="675"/>
              </a:spcBef>
              <a:buClr>
                <a:srgbClr val="8d9099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RedOTRI, miembro fundador.</a:t>
            </a:r>
            <a:endParaRPr b="1" lang="en-US" sz="1800" spc="-1" strike="noStrike">
              <a:solidFill>
                <a:srgbClr val="8d9099"/>
              </a:solidFill>
              <a:latin typeface="Century Gothic"/>
            </a:endParaRPr>
          </a:p>
          <a:p>
            <a:pPr lvl="1" marL="1231920" indent="-469800">
              <a:lnSpc>
                <a:spcPct val="90000"/>
              </a:lnSpc>
              <a:spcBef>
                <a:spcPts val="675"/>
              </a:spcBef>
              <a:buClr>
                <a:srgbClr val="8d9099"/>
              </a:buClr>
              <a:buFont typeface="Century Goth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Cada universidad, </a:t>
            </a: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miembro individual</a:t>
            </a:r>
            <a:r>
              <a:rPr b="0" lang="es-ES" sz="1800" spc="-1" strike="noStrike">
                <a:solidFill>
                  <a:srgbClr val="40458c"/>
                </a:solidFill>
                <a:latin typeface="Century Gothic"/>
              </a:rPr>
              <a:t> (22 miembros españoles en 2006)</a:t>
            </a:r>
            <a:endParaRPr b="1" lang="en-US" sz="1800" spc="-1" strike="noStrike">
              <a:solidFill>
                <a:srgbClr val="8d9099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entury Gothic"/>
              </a:rPr>
              <a:t>Otras relaciones:  Latinoamérica, Marruecos, Norteamérica (AUTM) …</a:t>
            </a:r>
            <a:endParaRPr b="1" lang="en-US" sz="2400" spc="-1" strike="noStrike">
              <a:solidFill>
                <a:srgbClr val="40458c"/>
              </a:solidFill>
              <a:latin typeface="Century Gothic"/>
            </a:endParaRPr>
          </a:p>
          <a:p>
            <a:pPr lvl="1" marL="12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d9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728-2E21-426C-A79F-15474708F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5616-9FA6-4FF2-A96D-3B82A33ECCFB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215800"/>
            <a:ext cx="777708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1" lang="es-ES_tradnl" sz="2800" spc="-1" strike="noStrike" u="sng">
                <a:solidFill>
                  <a:srgbClr val="f51313"/>
                </a:solidFill>
                <a:uFillTx/>
                <a:latin typeface="Tahoma"/>
              </a:rPr>
              <a:t>Módulo 3</a:t>
            </a:r>
            <a:r>
              <a:rPr b="1" lang="es-ES_tradnl" sz="36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6c"/>
                </a:solidFill>
                <a:latin typeface="Tahoma"/>
              </a:rPr>
              <a:t>Comunicación y Formación</a:t>
            </a:r>
            <a:r>
              <a:rPr b="1" lang="es-ES_tradnl" sz="36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711-127B-4A41-BE13-9B865D492E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55AE-EDD7-4EAD-8774-A2E8C3F76B84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333360"/>
            <a:ext cx="5991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Comunic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5640" y="1773360"/>
            <a:ext cx="748980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- OTRINet: 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www.redotriuniversidades.net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Noticias, directorios, bibliotecas, proyectos…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- Intranet 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* Acceso por perfiles</a:t>
            </a: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* Listas de distribución</a:t>
            </a:r>
            <a:br>
              <a:rPr sz="2400"/>
            </a:b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6c"/>
                </a:solidFill>
                <a:latin typeface="Tahoma"/>
              </a:rPr>
              <a:t>* Áreas de trabajo en grupo </a:t>
            </a:r>
            <a:br>
              <a:rPr sz="2400"/>
            </a:b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1AD-22CB-47AC-86B8-6F5B5673D6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CD3-CCEE-4FB4-8518-CD95A4BE272B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889308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Diseñado, implementado y evaluado por OTRI-Escuela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2007 IV Edición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“Autoconsumo”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Aprovechamiento capacidades y experiencias 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propias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Varias acciones respondiendo a necesidades y 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origen de las iniciativas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Financiación pública y autofinanciación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404640"/>
            <a:ext cx="6423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Programa de Form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BF4-2827-438B-9808-483FC0A2EF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559-B903-408D-B8A0-B62D3ADD0F06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77744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 de Técnicos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s RedOTRI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Acciones de movilidad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Jornadas Técnicas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s reconocidos 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04640"/>
            <a:ext cx="6423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Acciones formativ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058-0AB8-4419-940B-3692A90F0C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Gothic"/>
              </a:rPr>
              <a:t>ÍNDICE</a:t>
            </a:r>
            <a:br>
              <a:rPr sz="3200"/>
            </a:b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c"/>
                </a:solidFill>
                <a:latin typeface="Century Gothic"/>
              </a:rPr>
              <a:t>Historia de las OTRI: antecedentes y principales hitos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c"/>
                </a:solidFill>
                <a:latin typeface="Century Gothic"/>
              </a:rPr>
              <a:t>RedOTRI: estructura, funcionamiento y actividades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c"/>
                </a:solidFill>
                <a:latin typeface="Century Gothic"/>
              </a:rPr>
              <a:t>Comunicación y Formación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c"/>
                </a:solidFill>
                <a:latin typeface="Century Gothic"/>
              </a:rPr>
              <a:t>Encuesta RedOTRI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576"/>
              </a:spcBef>
              <a:buClr>
                <a:srgbClr val="f60c06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c"/>
                </a:solidFill>
                <a:latin typeface="Century Gothic"/>
              </a:rPr>
              <a:t>Nuestra agenda hoy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016-B451-4A16-BEDA-125A24344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B13-D8A7-4CE4-A608-2388A4C013FE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018880"/>
            <a:ext cx="7777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 de formación inicial para técnicos de TC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Emblemátic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 - Perfil debutante, 5 días, 36-40 alumnos, caso práctico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Doble objetivo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1) Formativo (concocimientos/destrezas)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2) Vertebrador de la red</a:t>
            </a:r>
            <a:br>
              <a:rPr sz="2400"/>
            </a:b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0" y="404640"/>
            <a:ext cx="6423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Curso de Técn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A9A-C77C-4BAE-8A35-C26ED745B3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C93-5401-4174-90CD-662CDBBA735B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777708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Metodología formativa definida: enfoque práctic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Perfil avanzad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Son tres en el IV Plan de Formación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 RedOTRI de valorización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 RedOTRI de contratos de I+D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Curso RedOTRI de proyectos europeos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404640"/>
            <a:ext cx="6423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Cursos RedOT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294-D23B-46EB-9CE6-59D0DD4E0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ADF-CA6A-4F8A-8615-AE1A81F720A5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280" y="2216160"/>
            <a:ext cx="77770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51313"/>
                </a:solidFill>
                <a:latin typeface="Tahoma"/>
              </a:rPr>
              <a:t>- Estancias de formación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Oferta: oficinas de acogida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Demandan: visitantes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f51313"/>
                </a:solidFill>
                <a:latin typeface="Tahoma"/>
              </a:rPr>
              <a:t>- Visitas de expertos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Oferta: especialistas formadores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Demandan: OTRI 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404640"/>
            <a:ext cx="6423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Programa de Movilida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089-2C2F-4F69-A6C8-96F705DF14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FD23-AEF9-4989-B44C-2503BC750D31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636640"/>
            <a:ext cx="77770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Jornadas técnicas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formato libre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Cursos reconocidos  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- iniciativas propias a compartir con la red</a:t>
            </a:r>
            <a:r>
              <a:rPr b="0" lang="es-ES_tradnl" sz="2400" spc="-1" strike="noStrike">
                <a:solidFill>
                  <a:srgbClr val="00006c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404640"/>
            <a:ext cx="47674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Jornadas técnicas y cursos reconocid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277-1BA4-4B85-AF29-9F811A313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lvl="1" marL="1231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d9099"/>
              </a:solidFill>
              <a:latin typeface="Century Gothic"/>
            </a:endParaRPr>
          </a:p>
          <a:p>
            <a:pPr marL="5716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060640"/>
            <a:ext cx="7489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51313"/>
                </a:solidFill>
                <a:uFillTx/>
                <a:latin typeface="Tahoma"/>
              </a:rPr>
              <a:t>Módulo 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" sz="3600" spc="-1" strike="noStrike">
                <a:solidFill>
                  <a:srgbClr val="00006c"/>
                </a:solidFill>
                <a:latin typeface="Tahoma"/>
              </a:rPr>
              <a:t>La Encuesta RedOTRI 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2A3-61D7-4039-99B3-8F22D6620A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entury Gothic"/>
              </a:rPr>
              <a:t>La Encuesta RedOTRI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Ofrece un seguimiento anual de la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actividad de TC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 de las universidades españolas.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Armonizada con otras encuestas europeas similares a través de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PROTON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Seccione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- Información sobre la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 OTRI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- Contexto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de la Universidad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- Volumen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de actividades en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TC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- Perfil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de los cliente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- Volumen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de otras actividades (financiación pública)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- Recursos y procesos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en las OTRI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6 años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 de recogida sistemática de información.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  <a:p>
            <a:pPr lvl="1" marL="11948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d9099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5AE-E8EC-44D4-994C-01FBECFBDA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24360" y="304920"/>
            <a:ext cx="4914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Informe </a:t>
            </a:r>
            <a:br>
              <a:rPr sz="2800"/>
            </a:b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RedOTRI 2006 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1280" y="2421000"/>
          <a:ext cx="770580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21000"/>
                    <a:ext cx="77058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67F-C917-4BA8-97A3-62096060AA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50920" y="304920"/>
            <a:ext cx="498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Informe </a:t>
            </a:r>
            <a:br>
              <a:rPr sz="2800"/>
            </a:b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RedOTRI 2006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2060640"/>
          <a:ext cx="799308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9930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791-3737-4F0E-B07C-C725DD8375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187280" y="2060640"/>
          <a:ext cx="669780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697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50920" y="304920"/>
            <a:ext cx="498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Informe </a:t>
            </a:r>
            <a:br>
              <a:rPr sz="2800"/>
            </a:b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RedOTRI 2006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EE6-24CD-4F7A-B348-155106CF67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49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Informe </a:t>
            </a:r>
            <a:br>
              <a:rPr sz="2800"/>
            </a:b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RedOTRI 2006 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42920" y="1916280"/>
          <a:ext cx="7561440" cy="39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16280"/>
                    <a:ext cx="75614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E4A-48EE-42C6-AC07-2C540444D2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36360" y="1628640"/>
            <a:ext cx="7164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2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51313"/>
                </a:solidFill>
                <a:uFillTx/>
                <a:latin typeface="Century Gothic"/>
              </a:rPr>
              <a:t>Módulo 1</a:t>
            </a: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c"/>
                </a:solidFill>
                <a:latin typeface="Century Gothic"/>
              </a:rPr>
              <a:t>Historia de las OTRI: antecedentes y principales hitos</a:t>
            </a: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D14-976C-470F-9303-5916705BB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51313"/>
                </a:solidFill>
                <a:uFillTx/>
                <a:latin typeface="Century Gothic"/>
              </a:rPr>
              <a:t>Módulo 5</a:t>
            </a: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c"/>
                </a:solidFill>
                <a:latin typeface="Century Gothic"/>
              </a:rPr>
              <a:t>Nuestra agenda hoy</a:t>
            </a:r>
            <a:endParaRPr b="1" lang="en-US" sz="40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692-D674-4AC3-B846-0AE1E71FE8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24360" y="340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entury Gothic"/>
              </a:rPr>
              <a:t>La agenda RedOTRI  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463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c"/>
                </a:solidFill>
                <a:latin typeface="Century Gothic"/>
              </a:rPr>
              <a:t>Entorno actual de la TC</a:t>
            </a: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10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Crecimiento presupuestario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Aumento de la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complejidad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del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SCTI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Creciente demanda de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retorno social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de la investigación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Aparente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falta de capacidad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del tejido empresarial español para absorber los resultados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Aparición de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nuevos instrumentos (parques, consorcios)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5E1-5720-4ED2-827E-802EDF62FF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463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c"/>
                </a:solidFill>
                <a:latin typeface="Century Gothic"/>
              </a:rPr>
              <a:t>Objetivos globales en el ámbito de la TC</a:t>
            </a: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Incremento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 del número y calidad de las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patentes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Intensificación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 de la actividad en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creación de EBT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Integrar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la TC desde las primeras fases de los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proyectos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Mantener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 el volumen de la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investigación cooperativa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spcBef>
                <a:spcPts val="1125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Incremento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de los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RRHH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dedicados en exclusiva a la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 TC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924360" y="340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entury Gothic"/>
              </a:rPr>
              <a:t>La agenda RedOTRI    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E7C-172A-4B8C-8137-8E10C563D5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-560160">
              <a:lnSpc>
                <a:spcPct val="80000"/>
              </a:lnSpc>
              <a:spcBef>
                <a:spcPts val="1400"/>
              </a:spcBef>
              <a:buClr>
                <a:srgbClr val="f60c06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6c"/>
                </a:solidFill>
                <a:latin typeface="Century Gothic"/>
              </a:rPr>
              <a:t>Propuestas</a:t>
            </a:r>
            <a:endParaRPr b="1" lang="en-US" sz="25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c"/>
                </a:solidFill>
                <a:latin typeface="CG Times"/>
              </a:rPr>
              <a:t>       </a:t>
            </a:r>
            <a:r>
              <a:rPr b="0" lang="es-ES" sz="1600" spc="-1" strike="noStrike">
                <a:solidFill>
                  <a:srgbClr val="00006c"/>
                </a:solidFill>
                <a:latin typeface="CG Times"/>
              </a:rPr>
              <a:t>(</a:t>
            </a:r>
            <a:r>
              <a:rPr b="0" lang="es-ES" sz="1500" spc="-1" strike="noStrike">
                <a:solidFill>
                  <a:srgbClr val="00006c"/>
                </a:solidFill>
                <a:latin typeface="Century Gothic"/>
              </a:rPr>
              <a:t>Aprobadas en Plenario de la Com. Sectorial de I+D)</a:t>
            </a:r>
            <a:endParaRPr b="1" lang="en-US" sz="15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51313"/>
                </a:solidFill>
                <a:latin typeface="Century Gothic"/>
              </a:rPr>
              <a:t>1.</a:t>
            </a:r>
            <a:r>
              <a:rPr b="0" lang="es-ES" sz="16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Diseño y elaboración de un nuevo</a:t>
            </a:r>
            <a:r>
              <a:rPr b="1" lang="es-ES" sz="1800" spc="-1" strike="noStrike">
                <a:solidFill>
                  <a:srgbClr val="00006c"/>
                </a:solidFill>
                <a:latin typeface="Century Gothic"/>
              </a:rPr>
              <a:t> </a:t>
            </a:r>
            <a:r>
              <a:rPr b="1" i="1" lang="es-ES" sz="1800" spc="-1" strike="noStrike">
                <a:solidFill>
                  <a:srgbClr val="00006c"/>
                </a:solidFill>
                <a:latin typeface="Century Gothic"/>
              </a:rPr>
              <a:t>Programa Nacional de Valorización y Transferencia del Conocimiento </a:t>
            </a:r>
            <a:r>
              <a:rPr b="0" i="1" lang="es-ES" sz="1800" spc="-1" strike="noStrike">
                <a:solidFill>
                  <a:srgbClr val="00006c"/>
                </a:solidFill>
                <a:latin typeface="Century Gothic"/>
              </a:rPr>
              <a:t>(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en el</a:t>
            </a:r>
            <a:r>
              <a:rPr b="0" i="1" lang="es-ES" sz="1800" spc="-1" strike="noStrike">
                <a:solidFill>
                  <a:srgbClr val="00006c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nuevo PN</a:t>
            </a:r>
            <a:r>
              <a:rPr b="0" i="1" lang="es-ES" sz="1800" spc="-1" strike="noStrike">
                <a:solidFill>
                  <a:srgbClr val="00006c"/>
                </a:solidFill>
                <a:latin typeface="Century Gothic"/>
              </a:rPr>
              <a:t>)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00006c"/>
                </a:solidFill>
                <a:latin typeface="Century Gothic"/>
              </a:rPr>
              <a:t>- 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Superando el modelo de convocatorias actual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- Individualizado por cada institución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- Plurianual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- Basado en indicadores de investigación de la institución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51313"/>
                </a:solidFill>
                <a:latin typeface="Century Gothic"/>
              </a:rPr>
              <a:t>2</a:t>
            </a:r>
            <a:r>
              <a:rPr b="0" lang="es-ES" sz="1800" spc="-1" strike="noStrike">
                <a:solidFill>
                  <a:srgbClr val="f51313"/>
                </a:solidFill>
                <a:latin typeface="Century Gothic"/>
              </a:rPr>
              <a:t>.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Elección de un</a:t>
            </a:r>
            <a:r>
              <a:rPr b="1" lang="es-ES" sz="1800" spc="-1" strike="noStrike">
                <a:solidFill>
                  <a:srgbClr val="00006c"/>
                </a:solidFill>
                <a:latin typeface="Century Gothic"/>
              </a:rPr>
              <a:t> conjunto de indicadores 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(absolutos y relativos) que permita una </a:t>
            </a:r>
            <a:r>
              <a:rPr b="1" lang="es-ES" sz="1800" spc="-1" strike="noStrike">
                <a:solidFill>
                  <a:srgbClr val="00006c"/>
                </a:solidFill>
                <a:latin typeface="Century Gothic"/>
              </a:rPr>
              <a:t>financiación ágil y rigurosa</a:t>
            </a:r>
            <a:r>
              <a:rPr b="0" lang="es-ES" sz="1800" spc="-1" strike="noStrike">
                <a:solidFill>
                  <a:srgbClr val="00006c"/>
                </a:solidFill>
                <a:latin typeface="Century Gothic"/>
              </a:rPr>
              <a:t> de las OTRIs de cada institución.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016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24360" y="340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entury Gothic"/>
              </a:rPr>
              <a:t>La agenda RedOTRI   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7FE-9A67-48F5-92F6-97773B3BB2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207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c"/>
                </a:solidFill>
                <a:latin typeface="Century Gothic"/>
              </a:rPr>
              <a:t>…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51313"/>
                </a:solidFill>
                <a:latin typeface="Century Gothic"/>
              </a:rPr>
              <a:t>3.</a:t>
            </a:r>
            <a:r>
              <a:rPr b="1" lang="es-ES" sz="20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1" lang="es-ES" sz="2000" spc="-1" strike="noStrike">
                <a:solidFill>
                  <a:srgbClr val="00006c"/>
                </a:solidFill>
                <a:latin typeface="Century Gothic"/>
              </a:rPr>
              <a:t>Modificación del Registro de OTRIs</a:t>
            </a:r>
            <a:r>
              <a:rPr b="0" lang="es-ES" sz="2000" spc="-1" strike="noStrike">
                <a:solidFill>
                  <a:srgbClr val="00006c"/>
                </a:solidFill>
                <a:latin typeface="Century Gothic"/>
              </a:rPr>
              <a:t> de la CICYT: criterios, clasificación, evaluación y renovación periódica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51313"/>
                </a:solidFill>
                <a:latin typeface="Century Gothic"/>
              </a:rPr>
              <a:t>4.</a:t>
            </a:r>
            <a:r>
              <a:rPr b="0" lang="es-ES" sz="2000" spc="-1" strike="noStrike">
                <a:solidFill>
                  <a:srgbClr val="00006c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6c"/>
                </a:solidFill>
                <a:latin typeface="Century Gothic"/>
              </a:rPr>
              <a:t>Definición, a través de los cauces académicos, de un </a:t>
            </a:r>
            <a:r>
              <a:rPr b="1" lang="es-ES" sz="2000" spc="-1" strike="noStrike">
                <a:solidFill>
                  <a:srgbClr val="00006c"/>
                </a:solidFill>
                <a:latin typeface="Century Gothic"/>
              </a:rPr>
              <a:t>postgrado en Transferencia del Conocimiento y Gestión de la Ciencia  y la Tecnología</a:t>
            </a:r>
            <a:r>
              <a:rPr b="0" lang="es-ES" sz="2000" spc="-1" strike="noStrike">
                <a:solidFill>
                  <a:srgbClr val="00006c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924360" y="340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entury Gothic"/>
              </a:rPr>
              <a:t>La agenda RedOTRI  </a:t>
            </a:r>
            <a:endParaRPr b="1" lang="en-US" sz="32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790-04FD-43FF-9704-DD0B6FE547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207640" cy="3889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f89f7"/>
                </a:solidFill>
                <a:uFillTx/>
                <a:latin typeface="Century Gothic"/>
                <a:hlinkClick r:id="rId1"/>
              </a:rPr>
              <a:t>www.redotriuniversidades.net</a:t>
            </a:r>
            <a:endParaRPr b="1" lang="en-US" sz="3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6f89f7"/>
                </a:solidFill>
                <a:uFillTx/>
                <a:latin typeface="Century Gothic"/>
                <a:hlinkClick r:id="rId2"/>
              </a:rPr>
              <a:t>st@redotriuniversidades.net</a:t>
            </a:r>
            <a:endParaRPr b="1" lang="en-US" sz="3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51313"/>
                </a:solidFill>
                <a:latin typeface="Century Gothic"/>
              </a:rPr>
              <a:t>¡¡¡Muchas Gracias!!!</a:t>
            </a: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A1C-CC06-4B9E-BCD8-721089BA35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cd882"/>
                </a:solidFill>
                <a:latin typeface="Century Gothic"/>
              </a:rPr>
              <a:t>RedOTRI:</a:t>
            </a:r>
            <a:br>
              <a:rPr sz="2800"/>
            </a:br>
            <a:r>
              <a:rPr b="1" lang="es-ES" sz="2800" spc="-1" strike="noStrike">
                <a:solidFill>
                  <a:srgbClr val="ecd882"/>
                </a:solidFill>
                <a:latin typeface="Century Gothic"/>
              </a:rPr>
              <a:t>PRINCIPALES HITOS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Ley de Reforma Universitaria, 1983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Ley de Patentes, 1986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Ley “de la Ciencia”, 1986.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Creación OVTT-CSIC, 1986. Creación CTT-UPC, 1987 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Primer Plan Nacional de I+D, 1988.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Primer curso de formación personal OTRIs, 1988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Primera convocatoria ayudas OTRIs, 1989. Creación OTT-MEC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Desaparición OTT-MEC. Registro de OTRIs en Ministerio, 1996.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RedOTRI de Universidades, 1997.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Puesta en marcha de Secretaría Técnica RedOTRI, 2004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90000"/>
              </a:lnSpc>
              <a:spcBef>
                <a:spcPts val="1012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entury Gothic"/>
              </a:rPr>
              <a:t>Socios fundadores de Proton-Europe, 2003</a:t>
            </a:r>
            <a:endParaRPr b="1" lang="en-US" sz="18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C17-08F7-4901-9524-87FD992A8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entury Gothic"/>
              </a:rPr>
              <a:t>Las Oficinas de Transferencia de Resultados de Investigación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Las universidades han confiado a las OTRIs en distintos momentos: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La promoción y gestión de las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relaciones en I+D+i con las empresas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 e institucione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La gestión de la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propiedad industrial: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protección y licencia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La promoción y gestión de la participación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 en programas europeo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La promoción de la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creación de empresas basadas en conocimiento universitario 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(recientemente).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Características de las OTRIs: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Al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 servicio de los investigadores y de la institución:</a:t>
            </a: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 no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intermediarios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Diversidad de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configuración jurídica y funcional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-565920">
              <a:lnSpc>
                <a:spcPct val="80000"/>
              </a:lnSpc>
              <a:spcBef>
                <a:spcPts val="950"/>
              </a:spcBef>
              <a:buClr>
                <a:srgbClr val="f60c06"/>
              </a:buClr>
              <a:buSzPct val="11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6c"/>
                </a:solidFill>
                <a:latin typeface="Century Gothic"/>
              </a:rPr>
              <a:t>Cooperación entre </a:t>
            </a:r>
            <a:r>
              <a:rPr b="1" lang="es-ES" sz="1700" spc="-1" strike="noStrike">
                <a:solidFill>
                  <a:srgbClr val="00006c"/>
                </a:solidFill>
                <a:latin typeface="Century Gothic"/>
              </a:rPr>
              <a:t>Unidades de Transferencia de Conocimiento: trabajo en red.</a:t>
            </a: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  <a:p>
            <a:pPr marL="56592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964-CA3C-4B5B-80A7-8D7A53C7C7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51313"/>
                </a:solidFill>
                <a:uFillTx/>
                <a:latin typeface="Century Gothic"/>
              </a:rPr>
              <a:t>Módulo 2</a:t>
            </a: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c"/>
                </a:solidFill>
                <a:latin typeface="Century Gothic"/>
              </a:rPr>
              <a:t>RedOTRI: estructura, funcionamiento y actividades</a:t>
            </a: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0BF-7407-4A74-A570-501C37562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La RedOTRI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76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60c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c"/>
                </a:solidFill>
                <a:latin typeface="Century Gothic"/>
              </a:rPr>
              <a:t>Se crea en 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marzo de 1997.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f60c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En el marco de la 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CRUE </a:t>
            </a:r>
            <a:r>
              <a:rPr b="0" lang="en-US" sz="2000" spc="-1" strike="noStrike">
                <a:solidFill>
                  <a:srgbClr val="00006c"/>
                </a:solidFill>
                <a:latin typeface="Century Gothic"/>
              </a:rPr>
              <a:t>(Conferencia de Rectores de Universidades Españolas), a través de la </a:t>
            </a:r>
            <a:r>
              <a:rPr b="1" lang="en-US" sz="2000" spc="-1" strike="noStrike">
                <a:solidFill>
                  <a:srgbClr val="00006c"/>
                </a:solidFill>
                <a:latin typeface="Century Gothic"/>
              </a:rPr>
              <a:t>Comisión Sectorial de (I+D)</a:t>
            </a:r>
            <a:endParaRPr b="1" lang="en-US" sz="20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Con la misión de propiciar la </a:t>
            </a: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orientación de las actividades de I+D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 universitarias hacia la convergencia con los intereses de </a:t>
            </a: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su entorno social y económico.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69 miembros 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(60 universidades + 9 organismos de I+D)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450 profesionales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7DE-B6E1-4309-93DC-3A99AC80C6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2436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entury Gothic"/>
              </a:rPr>
              <a:t>Objetivos de la RedOTRI</a:t>
            </a:r>
            <a:endParaRPr b="1" lang="en-US" sz="2800" spc="-1" strike="noStrike">
              <a:solidFill>
                <a:srgbClr val="f60c0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Potenciar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 el papel de las universidades en el Sistema Nacional de </a:t>
            </a: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Innovación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.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	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Contribuir a la </a:t>
            </a: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profesionalización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 y desarrollo de las OTRI de universidades y centros de investigación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	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Incrementar la participación española en los </a:t>
            </a: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programas de I+D de la UE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	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1176"/>
              </a:spcBef>
              <a:buClr>
                <a:srgbClr val="f60c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c"/>
                </a:solidFill>
                <a:latin typeface="Century Gothic"/>
              </a:rPr>
              <a:t>Colaborar con la administración</a:t>
            </a:r>
            <a:r>
              <a:rPr b="0" lang="en-US" sz="2100" spc="-1" strike="noStrike">
                <a:solidFill>
                  <a:srgbClr val="00006c"/>
                </a:solidFill>
                <a:latin typeface="Century Gothic"/>
              </a:rPr>
              <a:t> en temas de transferencia de conocimiento</a:t>
            </a: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  <a:p>
            <a:pPr marL="5716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A71-E36F-41F3-BAA8-A0D0D013A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211-A7C8-4FC3-A713-C14B0237914D}" type="slidenum">
              <a:rPr b="0" lang="en-US" sz="1400" spc="-1" strike="noStrike">
                <a:solidFill>
                  <a:srgbClr val="b7c1e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Century Gothic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476280"/>
            <a:ext cx="57754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Century Gothic"/>
              </a:rPr>
              <a:t>Ubicación de RedOTR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6560" y="2046240"/>
            <a:ext cx="5416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  R  U  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13080" y="4178160"/>
            <a:ext cx="126036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isión Sectorial I+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6560" y="4178160"/>
            <a:ext cx="125748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9600" y="4178160"/>
            <a:ext cx="125892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9600" y="2711520"/>
            <a:ext cx="107640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Presid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6560" y="2711520"/>
            <a:ext cx="1889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ahoma"/>
              </a:rPr>
              <a:t>Asamblea Genera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2520" y="3244680"/>
            <a:ext cx="1258920" cy="5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omité Perman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4280" y="3511440"/>
            <a:ext cx="75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32240" y="31114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4280" y="2844720"/>
            <a:ext cx="88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26120" y="2711520"/>
            <a:ext cx="126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Secretaría Técnic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2000" y="284472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6120" y="4178160"/>
            <a:ext cx="126036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5157720"/>
            <a:ext cx="13687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RedOTRI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4044960"/>
            <a:ext cx="5416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46280" y="40449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0" y="40449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9320" y="40449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5840" y="40449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0800" y="3778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486900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271-3B04-4115-9C81-AD69E59B8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4:40:18Z</dcterms:created>
  <dc:creator>Eladio</dc:creator>
  <dc:description/>
  <dc:language>en-US</dc:language>
  <cp:lastModifiedBy>cverdaguer</cp:lastModifiedBy>
  <dcterms:modified xsi:type="dcterms:W3CDTF">2007-05-17T18:38:25Z</dcterms:modified>
  <cp:revision>182</cp:revision>
  <dc:subject/>
  <dc:title>Presentación de PowerPoint</dc:title>
</cp:coreProperties>
</file>